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chimes.wav" ContentType="audio/x-wav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38CAA-A2F7-4ED3-8E67-2642BDA262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DA92-F46E-42D4-ACBE-2A73DB19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6A8D-9006-41EB-9B86-C22A2F5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99A6-1BAA-494F-8E77-4FA5100F6C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8CCD-FFD9-4716-918D-226EF948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C588-1729-41FE-BB9F-B3DD2D13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BEB2-9A38-495B-BCF0-F872488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F3480-34F8-4431-B87C-634B58BA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F037-00BF-4B9B-B8DB-3161A8CC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A9F44-EDDB-464A-9C91-A86AE2C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991F-7564-4708-A47B-255C6CC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2A2D-320A-4E59-8A40-0F6ED215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333E-0299-41B9-B24B-CDCBFF7F9CB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16. &#30452;&#27969;&#24863;&#24212;&#30005;&#27979;&#23450;" TargetMode="External"/><Relationship Id="rId2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3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4" Type="http://schemas.openxmlformats.org/officeDocument/2006/relationships/hyperlink" Target="file:///E:/N&#25439;&#20260;&#24247;&#22797;03/03&#26032;&#21326;&#21608;&#22260;&#31070;&#32463;&#24247;&#22797;.ppt#19. &#24378;&#24230;-&#26102;&#38388;&#26354;&#32447;&#26816;&#26597;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E:/N&#25439;&#20260;&#24247;&#22797;03/03&#26032;&#21326;&#21608;&#22260;&#31070;&#32463;&#24247;&#22797;.ppt#30.  &#22797;&#20064;&#39064;" TargetMode="External"/><Relationship Id="rId2" Type="http://schemas.openxmlformats.org/officeDocument/2006/relationships/image" Target="../media/image10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06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第五节  周围神经病损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5636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1150920" y="685800"/>
          <a:ext cx="780408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685800"/>
                    <a:ext cx="780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0492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219320" y="838080"/>
          <a:ext cx="76197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76197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1412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4" name="Object 3"/>
          <p:cNvGraphicFramePr/>
          <p:nvPr/>
        </p:nvGraphicFramePr>
        <p:xfrm>
          <a:off x="755640" y="2133720"/>
          <a:ext cx="78040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133720"/>
                    <a:ext cx="78040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3"/>
          <p:cNvGraphicFramePr/>
          <p:nvPr/>
        </p:nvGraphicFramePr>
        <p:xfrm>
          <a:off x="533520" y="2209680"/>
          <a:ext cx="838188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83818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4130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神经损伤再生方式－－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侧芽生长再支配（</a:t>
            </a:r>
            <a:r>
              <a:rPr b="1" lang="en-US" sz="1800" spc="-1" strike="noStrike">
                <a:solidFill>
                  <a:srgbClr val="72b5d2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72b5d2"/>
                </a:solidFill>
                <a:latin typeface="Verdana"/>
                <a:ea typeface="宋体"/>
              </a:rPr>
              <a:t>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619280" y="189000"/>
          <a:ext cx="6559560" cy="63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9000"/>
                    <a:ext cx="6559560" cy="63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评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MMT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ROM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电诊断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（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直流感应电测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/>
              </a:rPr>
              <a:t>强度</a:t>
            </a:r>
            <a:r>
              <a:rPr b="1" lang="en-US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/>
              </a:rPr>
              <a:t>-</a:t>
            </a:r>
            <a:r>
              <a:rPr b="1" lang="zh-CN" sz="20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/>
              </a:rPr>
              <a:t>时间曲线检查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神经肌肉电图检查、神经传导速度测定）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感觉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肌腱反射检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：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出汗试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其他： </a:t>
            </a:r>
            <a:r>
              <a:rPr b="1" lang="en-US" sz="2000" spc="-1" strike="noStrike">
                <a:solidFill>
                  <a:srgbClr val="969696"/>
                </a:solidFill>
                <a:latin typeface="Verdana"/>
                <a:ea typeface="宋体"/>
              </a:rPr>
              <a:t>ADL</a:t>
            </a:r>
            <a:r>
              <a:rPr b="1" lang="zh-CN" sz="2000" spc="-1" strike="noStrike">
                <a:solidFill>
                  <a:srgbClr val="969696"/>
                </a:solidFill>
                <a:latin typeface="Verdana"/>
                <a:ea typeface="宋体"/>
              </a:rPr>
              <a:t>、家庭、职业等社会环境的调查、生活满意度的调查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原理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肌肉均具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正常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神经损伤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早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肌肉兴奋性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神经兴奋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宋体"/>
              </a:rPr>
              <a:t>晚期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兴奋性消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2b5d2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肌肉收缩速度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闪电式快速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收缩缓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蠕动样收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极性法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阳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阴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兴奋阈改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部分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兴奋阈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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变性兴奋性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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感应电测定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害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点：灵敏度差，不能判断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只检测肌肉，在肌肉运动点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刺激时间、刺激强度观察不同反应曲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指标：曲线（左移、右移、弯折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值  （二倍基强度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最短反应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是由脑和脊髓以外的神经节、神经丛、神经干及神经末梢组成。是由运动纤维、感觉纤维和自主神经纤维组成的混合神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间曲线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应用价值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损伤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后：同直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应电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康复评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87645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/>
              </a:rPr>
              <a:t>早、防、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早期：药物、良肢位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P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支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98720" indent="-19872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O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</a:t>
            </a:r>
            <a:br>
              <a:rPr sz="2800"/>
            </a:br>
            <a:br>
              <a:rPr sz="3200"/>
            </a:b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2"/>
          <a:stretch/>
        </p:blipFill>
        <p:spPr>
          <a:xfrm>
            <a:off x="5562720" y="4343400"/>
            <a:ext cx="3200400" cy="2049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  <p:sndAc>
      <p:stSnd>
        <p:snd r:embed="rId3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治疗并发症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浮肿：</a:t>
            </a:r>
            <a:r>
              <a:rPr b="1" lang="zh-CN" sz="2800" spc="-1" strike="noStrike">
                <a:solidFill>
                  <a:srgbClr val="8ac8de"/>
                </a:solidFill>
                <a:latin typeface="Arial Black"/>
                <a:ea typeface="宋体"/>
              </a:rPr>
              <a:t>抬高患肢、绷带压迫、向心性按摩、被动活动、冷敷、高频电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组织挛缩和骨骼畸形：</a:t>
            </a:r>
            <a:r>
              <a:rPr b="1" lang="zh-CN" sz="2800" spc="-1" strike="noStrike">
                <a:solidFill>
                  <a:srgbClr val="8ac8de"/>
                </a:solidFill>
                <a:latin typeface="Tahoma"/>
                <a:ea typeface="宋体"/>
              </a:rPr>
              <a:t>早期被动活动、必要时夹板固定功能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继发性外伤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神经再生：必要的话修补、理疗、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肌肉质量、迎接神经的再支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，促进运动功能的恢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826920" y="3429000"/>
            <a:ext cx="6934320" cy="2057400"/>
          </a:xfrm>
          <a:prstGeom prst="wedgeRoundRectCallout">
            <a:avLst>
              <a:gd name="adj1" fmla="val 45787"/>
              <a:gd name="adj2" fmla="val -6898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被动运动、辅助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-3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助力运动、主动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3-4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级：抗阻运动、器械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结合日常生活功能性训练、作业疗法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康复治疗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-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7046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感觉神经的恢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注意的问题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代偿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皮肤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过伸动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避免过度疲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 额纹消失、嘴角下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上肢近端瘫痪，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桡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5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垂腕、屈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6-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猿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爪形手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  膝关节屈曲障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,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足下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跨槛步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胫神经损伤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L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4-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-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：“高弓仰趾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初期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药物：抗菌消炎、神经营养等对症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的保护，防止暴露性角膜炎：可使用保护性眼罩和抗生素眼药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：可用超短波消炎，短时间、低热量的红外线局部照射，以促进血液循环和消肿，禁用强烈刺激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面神经麻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可选用直流电药物离子导入法（一般先用红外线照射面部后，导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0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％新斯的明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0.2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加兰他敏）、低频脉冲电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刺治疗：取患侧阳白、太阳、睛明、承泣、颊车、地仓、迎香等穴，电针刺激，用断续波，以有明显的肌肉收缩为度，每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为一个疗程，休息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进行下一个疗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自我模仿训练：治疗师先说出或者演示如高兴、伤感、吃惊、愤怒、好奇、害羞等动作，然后让患者面对镜子表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按摩：按肌纤维的方向由下向上，从口轮匝肌到眼轮匝肌，可有效地帮助表情肌恢复，防止面部肌肉萎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104292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臂丛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减轻局部炎症和水肿，促进神经再生短波、微波、红外线、激光照射、磁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干扰电疗、电针、超声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增强肌力肌力  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下者，可用神经肌肉电刺激治疗瘫痪的肌肉、被动活动、主动助力运动等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以上时，应进行抗阻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伤，康复采用外展支架保护患肢，手部带外展支具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受损，支具使腕关节保持在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360" y="981000"/>
            <a:ext cx="2254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桡神经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42210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221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性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微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直流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频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O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MM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10920" y="1483920"/>
            <a:ext cx="8064360" cy="45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1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神经分布区发生剧痛，而神经传导功能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2)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神经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炎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由于炎症、中毒、营养缺乏、代谢障  碍、外伤等引起的病变，称为神经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周围神经损伤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围神经丛、神经干或其分支受外力作用而发生损伤，称为周围神经损伤。又分为</a:t>
            </a:r>
            <a:r>
              <a:rPr b="0" lang="zh-CN" sz="2800" spc="-1" strike="noStrike">
                <a:solidFill>
                  <a:srgbClr val="969696"/>
                </a:solidFill>
                <a:latin typeface="Verdana"/>
                <a:ea typeface="宋体"/>
              </a:rPr>
              <a:t>神经功能失用、轴索断裂、神经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正中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理因子治疗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E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止痛，超短波消肿及改善局部血液循环，促进神经再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被动运动：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主动运动：增加肌力和耐力，提高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支具：为矫正“猿手”畸形，防治肌腱挛缩，使受累关节处于功能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针刺：针刺支正、外关、阳池、中渚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尺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为防止小指、环指掌指关节过伸畸形，可使用关节折曲板，使掌指关节屈曲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5°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配戴弹簧手夹板，使蚓状肌处于良好位置，屈曲的手指处于伸展状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针刺小海、通里、后溪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坐骨神经损伤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配用支具（如足托）或矫形鞋，以防治膝、踝关节挛缩及足内、外翻畸形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环跳、风市、阳陵泉、昆仑等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腓总神经损伤 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  可用足托或穿矫形鞋使踝保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90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位。如为神经断裂，应尽早手术缝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也可针刺阳陵泉、风隆、绝骨、丘墟等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常见周围神经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6708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表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觉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反射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主神经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目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或减轻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防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与解除肌肉肌腱挛缩、关节僵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防止肌肉萎缩、增强肌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Verdana"/>
                <a:ea typeface="宋体"/>
              </a:rPr>
              <a:t>促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运动与感觉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生活与工作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代谢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3976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瓦勒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变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节段性脱髓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3203640" y="1413000"/>
            <a:ext cx="4647960" cy="1066680"/>
          </a:xfrm>
          <a:prstGeom prst="wedgeRoundRectCallout">
            <a:avLst>
              <a:gd name="adj1" fmla="val -61064"/>
              <a:gd name="adj2" fmla="val 24254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神经纤维受损中断、远端轴索和髓鞘发生变性、碎裂，为雪旺细胞和巨噬细胞吞噬破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348000" y="2817720"/>
            <a:ext cx="4191120" cy="838440"/>
          </a:xfrm>
          <a:prstGeom prst="wedgeRoundRectCallout">
            <a:avLst>
              <a:gd name="adj1" fmla="val -65115"/>
              <a:gd name="adj2" fmla="val -1212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ahoma"/>
                <a:ea typeface="宋体"/>
              </a:rPr>
              <a:t>由感染、中毒等引起轴索变性、断裂，髓鞘相继崩解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284720" y="4149720"/>
            <a:ext cx="4648320" cy="1219320"/>
          </a:xfrm>
          <a:prstGeom prst="wedgeRoundRectCallout">
            <a:avLst>
              <a:gd name="adj1" fmla="val -80500"/>
              <a:gd name="adj2" fmla="val -37500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沿神经纤维有长短不等的节段髓鞘破坏，但轴索保持完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损伤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失用症：暂时性传导阻滞，连续性无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轴索断裂：轴索连续性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断裂：神经纤维结缔组织鞘皆断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360" y="1341360"/>
            <a:ext cx="31194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2b5d2"/>
                </a:solidFill>
                <a:latin typeface="Verdana"/>
                <a:ea typeface="宋体"/>
              </a:rPr>
              <a:t>周围神经的再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533520" y="2286000"/>
            <a:ext cx="3581280" cy="533520"/>
          </a:xfrm>
          <a:prstGeom prst="wedgeRoundRectCallout">
            <a:avLst>
              <a:gd name="adj1" fmla="val 53101"/>
              <a:gd name="adj2" fmla="val 102379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索断裂（神经膜存在</a:t>
            </a:r>
            <a:r>
              <a:rPr b="0" lang="zh-CN" sz="32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380880" y="3733920"/>
            <a:ext cx="3048120" cy="457200"/>
          </a:xfrm>
          <a:prstGeom prst="wedgeRoundRectCallout">
            <a:avLst>
              <a:gd name="adj1" fmla="val 82708"/>
              <a:gd name="adj2" fmla="val 7465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管鞘</a:t>
            </a:r>
            <a:r>
              <a:rPr b="0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神经膜管形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6172200" y="2895480"/>
            <a:ext cx="2133720" cy="457200"/>
          </a:xfrm>
          <a:prstGeom prst="wedgeRoundRectCallout">
            <a:avLst>
              <a:gd name="adj1" fmla="val -123662"/>
              <a:gd name="adj2" fmla="val 33090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轴芽生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441972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343400" y="4038480"/>
            <a:ext cx="0" cy="9907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724280" y="4038480"/>
            <a:ext cx="0" cy="9144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495680" y="2209680"/>
            <a:ext cx="152640" cy="6858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4495680" y="3124080"/>
            <a:ext cx="1526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495680" y="3962520"/>
            <a:ext cx="152640" cy="4572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4"/>
          <p:cNvSpPr/>
          <p:nvPr/>
        </p:nvSpPr>
        <p:spPr>
          <a:xfrm>
            <a:off x="4495680" y="4419720"/>
            <a:ext cx="152640" cy="457200"/>
          </a:xfrm>
          <a:prstGeom prst="rect">
            <a:avLst/>
          </a:prstGeom>
          <a:solidFill>
            <a:srgbClr val="f3f4d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4495680" y="4876920"/>
            <a:ext cx="152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13:44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